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93B4-0E91-4B7F-9EBE-D2E8F7F8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374-EE7D-4AC1-A4EA-B1251E2AC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BD7-A06C-463F-8CD1-AE86179C9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6DC1-10AC-45F4-92D7-3F2F80DC4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A275-1D6E-46A0-BA80-F58CC3E03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3000-4083-44E7-9856-2023BCEDD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2C08-9998-4605-AF65-9EBEB1672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958-0220-488D-911E-36F7ABC64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87F-9695-4B31-831F-E5FC6B37E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2B8-63FC-4406-9DD1-D76401F83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68CE-1288-45C0-9768-EDDF87870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304-ECFA-4FB3-9A6F-C73BB993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83B-3D68-46BF-AB81-83E002DA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EF1-2A01-463B-A08B-6B0E21A2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B0B-6FD6-4605-8956-92F73679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21D-F6FB-4752-AAB2-09DEDF85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DCA-AB74-4CF8-B409-A31C33C9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42B-354C-4789-8C0C-6744D21D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482-F816-4E25-A0A3-34674F9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FD5-7262-46A7-A4B0-CD4724C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F5E-241E-4B79-B20D-12BB288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F91-6C30-44B5-B188-4B8697BF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A85-AA4C-454D-9D51-DCD1712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0EA1-101C-42E7-A0AC-53BEF18A0F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B0FC-BFFA-48F9-935C-E48C95537E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listopadu 2018, Ost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ABC-4697-40D0-B8E9-01A9D69174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C95C-75ED-4E9D-8E37-3D10F2F67D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E1E-24CB-4816-89D0-C3F5D8FEF3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74BE-5EEE-4696-82F2-B7D130235D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evidováni v databázi 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F4CE-9436-4E93-97A3-7726215D61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oborovým skupinám podle OECD (Frascati Manu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předseda, místopředseda + 2 panelisté za každý obor FORD (Fields of Research and Developement, např. 1.1 Mathematics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F16-D186-4284-85FF-93F987C3E9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dí (po odsouhlasení druhým oborovým panelistou) s pomocí aplikace SKV k výsledkům vhodné hodnotitele z databáz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podle vybraného kritéria  hodnocení 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ACD-6F42-4A65-9A5B-E7C711DCE3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E31-2539-45CC-8DE2-56FC10823A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3592-4E0C-4C45-AED7-9C8F665F59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D2D9-EA70-4315-BFB2-9EC9514F19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Pávková Markéta</cp:lastModifiedBy>
  <cp:lastPrinted>2018-03-13T15:15:38Z</cp:lastPrinted>
  <dcterms:modified xsi:type="dcterms:W3CDTF">2018-11-22T15:31:57Z</dcterms:modified>
  <cp:revision>97</cp:revision>
  <dc:subject/>
  <dc:title>Prezentace aplikace PowerPoint</dc:title>
</cp:coreProperties>
</file>